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C3FC-260E-4B21-912F-3F7732D8B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4B06-30F3-469E-A32A-2BF71D889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58A3-B937-4051-A887-5738D50AC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384A-A7A2-4B32-97E4-15934CF73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0309-F958-4FDF-883F-1EAB95C71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4458-E954-4AFA-814B-4EA4304F6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7DCD-A1C2-4A1B-9773-F3C97FEA6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5F32-37C0-4E46-80BE-EF09EC785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02A9-A323-4A24-A092-68F1B5ECE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BCA1-05A9-4BAD-B1FB-5004E5272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B968-E402-4846-BD08-F5F3B989C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08DA-F845-476F-B949-6818604F9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4E2D0-E9A6-4A67-9A30-A8AECF570A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www.digital-picture-printing-frames.com/store/images/categories/Georges%2520Seurat-Portrait_med.jpg&amp;imgrefurl=http://www.digital-picture-printing-frames.com/store/PPF/Category_ID/1176/products.asp&amp;h=210&amp;w=150&amp;sz=26&amp;tbnid=R5V3sZL_ObqaYM:&amp;tbnh=106&amp;tbnw=76&amp;prev=/images%3Fq%3Dseurat%2Bportrait&amp;hl=en&amp;usg=__txOYEGy3dc3XMxwmU-okkKXJ5dM=&amp;ei=okB8S9KZGIGuNse_lL0F&amp;sa=X&amp;oi=image_result&amp;resnum=1&amp;ct=image&amp;ved=0CAkQ9QEwAA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en.wikipedia.org/wiki/Painting" TargetMode="External"/><Relationship Id="rId2" Type="http://schemas.openxmlformats.org/officeDocument/2006/relationships/hyperlink" Target="http://en.wikipedia.org/wiki/Color" TargetMode="External"/><Relationship Id="rId3" Type="http://schemas.openxmlformats.org/officeDocument/2006/relationships/hyperlink" Target="http://en.wikipedia.org/wiki/Georges_Seurat" TargetMode="External"/><Relationship Id="rId4" Type="http://schemas.openxmlformats.org/officeDocument/2006/relationships/hyperlink" Target="http://en.wikipedia.org/wiki/Impressionism" TargetMode="External"/><Relationship Id="rId5" Type="http://schemas.openxmlformats.org/officeDocument/2006/relationships/hyperlink" Target="http://en.wikipedia.org/wiki/Art_critics" TargetMode="External"/><Relationship Id="rId6" Type="http://schemas.openxmlformats.org/officeDocument/2006/relationships/hyperlink" Target="http://upload.wikimedia.org/wikipedia/commons/5/5d/Seurat-La_Parade_detail.jpg" TargetMode="External"/><Relationship Id="rId7" Type="http://schemas.openxmlformats.org/officeDocument/2006/relationships/image" Target="../media/image3.jpeg"/><Relationship Id="rId8" Type="http://schemas.openxmlformats.org/officeDocument/2006/relationships/hyperlink" Target="http://en.wikipedia.org/wiki/Georges-Pierre_Seurat" TargetMode="External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masterarts.com.au/images/pi_467.jpeg&amp;imgrefurl=http://www.masterarts.com.au/catalog/The_Eiffel_Tower_cat_74.html&amp;usg=__K_gGZBM8o_mRyMYimJFt0tn-YR0=&amp;h=475&amp;w=300&amp;sz=226&amp;hl=en&amp;start=18&amp;sig2=YiBpDmtsW0BKQWQyPYRj-g&amp;um=1&amp;itbs=1&amp;tbnid=zZ89JIH3FM1kgM:&amp;tbnh=129&amp;tbnw=81&amp;prev=/images%3Fq%3Dseurat%2Bpaintings%26ndsp%3D20%26hl%3Den%26sa%3DN%26um%3D1&amp;ei=uTh8S-u_OJPV8AaF1P3MBQ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artinthepicture.com/artists/Georges_Seurat/seated.jpe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990720"/>
            <a:ext cx="7010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Franklin Gothic Demi"/>
              </a:rPr>
              <a:t>Georges-Pierre Seur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48520" y="2895480"/>
            <a:ext cx="1833480" cy="257184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sp>
        <p:nvSpPr>
          <p:cNvPr id="43" name=""/>
          <p:cNvSpPr/>
          <p:nvPr/>
        </p:nvSpPr>
        <p:spPr>
          <a:xfrm>
            <a:off x="533520" y="3505320"/>
            <a:ext cx="426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 painted the way I did, because I wanted something new.  I wanted a kind of painting that was my own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Circus"/>
          <p:cNvPicPr/>
          <p:nvPr/>
        </p:nvPicPr>
        <p:blipFill>
          <a:blip r:embed="rId1"/>
          <a:stretch/>
        </p:blipFill>
        <p:spPr>
          <a:xfrm>
            <a:off x="1905120" y="23760"/>
            <a:ext cx="5333760" cy="681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The Gardener by Georges Seurat"/>
          <p:cNvPicPr/>
          <p:nvPr/>
        </p:nvPicPr>
        <p:blipFill>
          <a:blip r:embed="rId1"/>
          <a:stretch/>
        </p:blipFill>
        <p:spPr>
          <a:xfrm>
            <a:off x="1676520" y="148608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The Maria at Honfleur"/>
          <p:cNvPicPr/>
          <p:nvPr/>
        </p:nvPicPr>
        <p:blipFill>
          <a:blip r:embed="rId1"/>
          <a:stretch/>
        </p:blipFill>
        <p:spPr>
          <a:xfrm>
            <a:off x="1523880" y="766800"/>
            <a:ext cx="6324840" cy="51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Horse in a Field"/>
          <p:cNvPicPr/>
          <p:nvPr/>
        </p:nvPicPr>
        <p:blipFill>
          <a:blip r:embed="rId1"/>
          <a:stretch/>
        </p:blipFill>
        <p:spPr>
          <a:xfrm>
            <a:off x="1066680" y="808200"/>
            <a:ext cx="67820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52280" y="2057400"/>
            <a:ext cx="899172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orn December 2, 1859 in Paris, Fr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ied March 29, 1891 of diphtheria at the age of 3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ainter – Impressionism &amp; Modern 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eveloped the painting technique 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Pointill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cientific approach to use of color, dots, &amp; l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ost famous work  </a:t>
            </a: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A Sunday on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the Island of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La Grande Jat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19320" y="380880"/>
            <a:ext cx="632448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Georges Seur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Pronounced </a:t>
            </a: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(Zhorzh Sirra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8001000" cy="60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990720"/>
            <a:ext cx="685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intillis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 technique of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ainting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in which small, distinct dots of pure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olor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are applied in patterns to form an image.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Georges Seurat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developed the technique in 1886, branching from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Impressionism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 The term Pointillism was first coined by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art critics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in the late 1880s to ridicule the works of these artists and is now used without its earlier mocking connot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File:Seurat-La Parade detail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486400" y="3048120"/>
            <a:ext cx="2038320" cy="3309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57200" y="3337200"/>
            <a:ext cx="4648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oncept of pointillism is to create solid space of color by using dots of two or more colors in an area. French artist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Georges-Pierre Seurat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made this technique famous. His painting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unday Afternoon on the Island of La Grande Jat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884-1888) is one of the most famous paintings in the worl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8001000" cy="60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" y="407880"/>
            <a:ext cx="8915400" cy="58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89160" y="990720"/>
            <a:ext cx="30132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463680"/>
            <a:ext cx="7848720" cy="598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Seated Woma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05120" y="1233360"/>
            <a:ext cx="5333760" cy="43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7T19:17:06Z</dcterms:created>
  <dc:creator>Patrick J. Mooney</dc:creator>
  <dc:description/>
  <dc:language>en-US</dc:language>
  <cp:lastModifiedBy>Patrick J. Mooney</cp:lastModifiedBy>
  <dcterms:modified xsi:type="dcterms:W3CDTF">2010-02-22T19:32:27Z</dcterms:modified>
  <cp:revision>8</cp:revision>
  <dc:subject/>
  <dc:title>Slide 1</dc:title>
</cp:coreProperties>
</file>